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C10A-CD75-4AC4-AE8F-79B57D78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9F74-D97F-42D0-8A30-C4A5518C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EF2D-E289-4B2F-A59E-7009E262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AAE-C3CF-4B99-9562-4D63B197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5CB2-FE0B-4A93-B328-43DED06CB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61BE-26BB-402C-92FC-1AC99505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DF598-ABBA-42BC-B794-5BEE90AE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07173-18FC-4F19-A587-C2A1C54B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76C24-84E4-43DD-A6EB-80AB7647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F3BE-B188-48EA-80E5-A644F680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4F41B-44B2-4E73-BE3B-C2133584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E0A-93BB-4D2D-B88A-DA9B7382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F6967-19D4-4DD8-A6D0-D01625F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D9FE-9776-4037-80AC-36FAA06E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8785-806C-448D-A6EE-DDFC22B40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C7CD-C90A-458C-9900-B3CB2E15E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89AA8-F357-47EF-9165-FC6805CF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4EFC-F614-4D24-B386-5776CB1D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5E4B-5056-4D2F-842C-337B0410B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3B57-8C00-4C4D-9973-F88D0693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465D-DE91-4037-B619-DFDF60EB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9D57-5E66-42CC-A128-0ECCEAC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EB3C-24E7-469A-B582-A29C1250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EE1-0105-4C4E-8AE5-B654FEAD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28CEFB-05F9-411E-A431-DFD285C872B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9741A-7BE1-48B6-B083-B2A0A319F81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8D08B-3847-4A03-A5B7-F2443FA2D776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AF3C8-39B6-48C3-B34F-2F1265A30A8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Get Started on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Rush/ Mr. Farrell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Start a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6" name="Macintosh HD:Users:Craig:Movies:Screenium:20110206-122918.mov" descr="/Users/Craig/Movies/Screenium/20110206-12291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2c7c9f"/>
                </a:solidFill>
                <a:latin typeface="News Gothic MT"/>
              </a:rPr>
              <a:t>How to Name your Wiki-World History</a:t>
            </a:r>
            <a:endParaRPr b="0" lang="en-US" sz="41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8" name="Macintosh HD:Users:Craig:Movies:Screenium:20110206-123414.mov" descr="/Users/Craig/Movies/Screenium/20110206-123414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Name your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me it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shroder__________(your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f 2 in class have the same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name, type whshroderrodneyb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shroderrodneybu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reate 1</a:t>
            </a:r>
            <a:r>
              <a:rPr b="0" lang="en-US" sz="4600" spc="-1" strike="noStrike" baseline="30000">
                <a:solidFill>
                  <a:srgbClr val="2c7c9f"/>
                </a:solidFill>
                <a:latin typeface="News Gothic MT"/>
              </a:rPr>
              <a:t>st</a:t>
            </a: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 page/ Invite to Joi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2" name="Macintosh HD:Users:Craig:Movies:Screenium:20110206-125822.mov" descr="/Users/Craig/Movies/Screenium/20110206-125822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nking Assignments to Wik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4" name="Macintosh HD:Users:Craig:Movies:Screenium:20110207-083347.mov" descr="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ow to Embed a Dipit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6" name="Macintosh HD:Users:Craig:Movies:Screenium:20110204-162958.mov" descr="/Users/Craig/Movies/Screenium/20110204-162958.mov"/>
          <p:cNvPicPr/>
          <p:nvPr/>
        </p:nvPicPr>
        <p:blipFill>
          <a:blip r:embed="rId2"/>
          <a:stretch/>
        </p:blipFill>
        <p:spPr>
          <a:xfrm>
            <a:off x="1095480" y="1600200"/>
            <a:ext cx="6949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3:28:29Z</dcterms:created>
  <dc:creator>Craig Rush</dc:creator>
  <dc:description/>
  <dc:language>en-US</dc:language>
  <cp:lastModifiedBy>Craig Rush</cp:lastModifiedBy>
  <dcterms:modified xsi:type="dcterms:W3CDTF">2011-02-07T13:52:07Z</dcterms:modified>
  <cp:revision>4</cp:revision>
  <dc:subject/>
  <dc:title>How to Get Started on Wiki</dc:title>
</cp:coreProperties>
</file>